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2.xml.rels" ContentType="application/vnd.openxmlformats-package.relationships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6BF7-96AA-4F64-BCA8-DEC4B3216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-Observed-Adverse-Effect Level (NOAE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highest exposure level at which there are no biologically significant increases in the frequency or severity of adverse effect between the exposed population and its appropriate control; some effects may be produced at this level, but they are not considered adverse or precursors of adverse effe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west-Observed-Adverse-Effect Level (LOAE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he lowest exposure level at which there are biologically significant increases in frequency or severity of adverse effects between the exposed population and its appropriate contro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073-1FEF-4E2E-8969-1C1154372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F410-6360-4C92-B0BA-497861959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B1BD-00E3-4DF2-9B6E-B1E00C801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DAAF-7902-4003-89DE-3D0ECBC2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E09F-E1F8-4C4D-957C-82DEF1D5A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8A68-F92C-454B-88AE-74E02FDDE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0B7B-C25C-43A8-B7FE-616D2C275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8E19-E614-4912-AC19-503113D9C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B16D-3982-4483-BF07-A5895CED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E670-1653-4AFB-8DD4-74A8DB2E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D47A-44BE-4373-897F-5271C597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D969-06E4-4B76-8797-41CDF63A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C07-DF77-467B-9336-BE37C500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63640" y="555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F65-3DAE-47FA-A592-CFBCEE9B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6364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360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E99-8A13-45BA-AD07-C74DAB20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27600" y="51573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1920" y="51573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63640" y="555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27600" y="555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1920" y="555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E4F-EC52-4304-B6EA-8ED39CD7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8D4E-3FCD-4A85-9435-BF2F0C3D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63640" y="5157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762E-2DAA-496A-8B14-0728F938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80E9-95BC-48F2-A9E2-49C3A6F1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A3E2-0642-40E9-BC67-3075B0A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1320-6371-43DE-8DA0-AF2866CF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486040" y="380880"/>
            <a:ext cx="342900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A03-D2C0-4F91-938B-4877588C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6364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B180-39DD-45F4-8171-F270883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63640" y="5157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744-5243-4F94-9230-F3BD645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360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B9CF-6BA5-463F-81E7-55747A9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640" y="555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708D-AEB4-43D0-9ABF-C467413A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63640" y="555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26F-35F1-49F4-ACF2-B1C3CFE0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6364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4360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E38B-6D1B-451B-9A3D-4D2637B6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27600" y="51573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920" y="515736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63640" y="555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27600" y="555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1920" y="555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E7EB-5B75-425B-A64A-987B47D5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F74-263E-4812-8CF5-C1B88814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281-8A0C-4CD0-9265-9DC6555B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3C9-7079-48C5-92FB-E347992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486040" y="380880"/>
            <a:ext cx="342900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6E3-30D3-482F-961B-BBB28475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6364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1BA-2DC3-4C4B-B428-BA31C6A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0" y="555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CFF-E07A-4C44-A0D2-0194DE4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6364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0" y="515736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63640" y="555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E0A-8804-445F-AC6C-79466846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1571" t="0" r="20583" b="0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713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6E51-23E9-4437-A618-0CA61B57CCEF}" type="datetime">
              <a:rPr b="0" lang="en-US" sz="1200" spc="-1" strike="noStrike">
                <a:solidFill>
                  <a:srgbClr val="5f5f5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520" y="624852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246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3A0E-BC36-45C3-BA80-0A992EC6025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-304920"/>
            <a:ext cx="6477120" cy="6477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21861" t="0" r="21861" b="0"/>
          <a:stretch/>
        </p:blipFill>
        <p:spPr>
          <a:xfrm>
            <a:off x="-468360" y="0"/>
            <a:ext cx="1981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86040" y="3808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28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59AB-3D60-4A8F-A940-52119EDE462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4379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Pres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4671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87D3-07FB-4695-861D-CB54327E30F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4000" y="1197000"/>
            <a:ext cx="1584360" cy="4777920"/>
            <a:chOff x="-324000" y="1197000"/>
            <a:chExt cx="1584360" cy="477792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-324000" y="1197000"/>
              <a:ext cx="158436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-324000" y="2121120"/>
              <a:ext cx="158436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-324000" y="3111480"/>
              <a:ext cx="1584360" cy="88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-324000" y="4101480"/>
              <a:ext cx="1584360" cy="88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-324000" y="5092920"/>
              <a:ext cx="1584360" cy="88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as.org/ONLINE/UG/regprops.html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www.cas.org/ONLINE/UG/taggedproperties.pdf" TargetMode="External"/><Relationship Id="rId3" Type="http://schemas.openxmlformats.org/officeDocument/2006/relationships/hyperlink" Target="http://www.cas.org/ONLINE/UG/taggedproperties.pdf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s://casevents.webex.com/casevents/mywebex/default.php?chemicalsign=6&amp;Rnd4023=0.9398861938486913" TargetMode="External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hyperlink" Target="http://scifi.hbz-nrw.de/" TargetMode="External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hyperlink" Target="https://my.cas.org/login/mycas.jsp?TYPE=33554433&amp;REALMOID=06-00058e8a-227d-1d5d-a48c-8308e6d60000&amp;GUID=&amp;SMAUTHREASON=0&amp;METHOD=GET&amp;SMAGENTNAME=$SM$cWXJnjPdKDmdeFRBptVqqQXqKOIR7PwYnxLvqEJX5xU=&amp;TARGET=$SM$https://my.cas.org/myinfo" TargetMode="External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as.org/EO/caspat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highwire.stanford.edu/lists/freeart.dtl" TargetMode="External"/><Relationship Id="rId2" Type="http://schemas.openxmlformats.org/officeDocument/2006/relationships/hyperlink" Target="http://highwire.stanford.edu/lists/freeart.dtl" TargetMode="External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3640" y="380880"/>
            <a:ext cx="3911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2006 Edi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35280" y="508428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SciFinder Scholar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ontent Updat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1600" y="587700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. Karin Fär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7413-313F-4B62-93A8-481B3126B0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DA835AC-E1AE-4ECB-9ECA-B0D0763CA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</a:t>
            </a:r>
            <a:br>
              <a:rPr sz="40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8560" y="1412640"/>
            <a:ext cx="64818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lculated Propertie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9 Mio Substanze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erimental Properti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.39 Mio Substanze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Incl. 138 000 Spectra display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roperty Ta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.59 Mio Substanze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9E0-70F1-4F4C-9B63-162E8D8C28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36ABD-E315-4215-96E0-B95FF5FB7C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I</a:t>
            </a:r>
            <a:br>
              <a:rPr sz="40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840360" cy="468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1179360"/>
            <a:ext cx="518472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9B2-53BD-41B2-8D7C-884C4B163D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CC5D0-B207-4246-A7CB-D67D2C55F0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II</a:t>
            </a:r>
            <a:br>
              <a:rPr sz="40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41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F63-62F1-4717-9B3D-E598D216EC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16744-7CB3-4ED9-8F0E-CFEE6A91D0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V</a:t>
            </a:r>
            <a:br>
              <a:rPr sz="36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1589040"/>
            <a:ext cx="8532720" cy="34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6A6-AD06-4670-AD99-1CCC59C920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A8FAE-0A86-41D1-808C-1341FD44E9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87520" y="5251320"/>
            <a:ext cx="42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Berechnete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= Experimentelle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</a:t>
            </a:r>
            <a:br>
              <a:rPr sz="40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1703520"/>
            <a:ext cx="5182920" cy="337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>
            <a:off x="5940360" y="2492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40360" y="2492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940360" y="299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73280" y="273060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+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1840" y="53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62728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940360" y="35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12000" y="414972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2000" y="4508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12000" y="494172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12000" y="3860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360" y="587700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DDE-7EBB-4531-B249-0CC6D02DA6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6DEE5-85D9-413D-A4AC-EFDD6D4D09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</a:t>
            </a:r>
            <a:br>
              <a:rPr sz="40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5473800" cy="377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6300720" y="2205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300720" y="321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300720" y="342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30072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300720" y="400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00720" y="4221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00720" y="458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00720" y="508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00720" y="5589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300720" y="364500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932-ACC3-44C4-A8A4-4A3AD10156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5C08F-9DE8-46DD-A907-8AC5A78AAD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I</a:t>
            </a:r>
            <a:br>
              <a:rPr sz="40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086080" cy="244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5076720" cy="1609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H="1">
            <a:off x="5724360" y="5157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724360" y="2060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724360" y="249228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724360" y="292428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724360" y="350028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24360" y="4076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24360" y="458136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07D-5F70-4586-BEF7-3225D44B06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C50E6-B126-40D7-B2FC-10770C9225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II</a:t>
            </a:r>
            <a:br>
              <a:rPr sz="4000"/>
            </a:b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Überblick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843280" y="4508640"/>
            <a:ext cx="5010120" cy="17809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324000" y="1268280"/>
            <a:ext cx="6265800" cy="2952720"/>
            <a:chOff x="324000" y="1268280"/>
            <a:chExt cx="6265800" cy="295272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324000" y="1268280"/>
              <a:ext cx="50101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flipH="1">
              <a:off x="5365440" y="1412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365440" y="350028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437080" y="37893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H="1">
            <a:off x="5364000" y="177336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92720" y="2276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364000" y="263700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292720" y="299736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292720" y="3284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667640" y="486900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740720" y="5300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740720" y="551664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740720" y="580536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740720" y="6093000"/>
            <a:ext cx="1224000" cy="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35280" y="400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5DF-CDB6-4DB9-8D57-12982A7B41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064AD-DF7D-45E2-8CEB-3F5B4FC14E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</a:t>
            </a:r>
            <a:br>
              <a:rPr sz="4000"/>
            </a:b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calulated properties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62864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erech. Eigenschaften für 19 Mio. Subst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Neue Eingeschaften sind hinzu gek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wurden mit  Advanced Chemistry Development Lab’s (ACD) PhysChem Batch version 8.14 Software berech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Die ACD Version ist Teil des Property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F8B-1BEE-4D9E-893A-B3885000F9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8BB66-D1E9-4A0D-892B-1DA2FD4370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I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alulated properties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ue berechnete Eigenschafte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rinsic solubil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ar volum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lar suface are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m of hydrogen donors + hydrogen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cep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79B-94FD-4B99-9716-209B170550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2C7B2-7421-464A-ADC4-1850FA95B8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15920" y="1125000"/>
            <a:ext cx="8128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Daten in SciFinder Scholar (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/200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6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Pate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bdeckung/ Journalabdecku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ue alte Daten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Zitierung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hysikalische Eigenschafte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aktionsinform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ue Schulungsmaterialien zu SciFinder 200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ues an der Auflage SFS 200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SF 200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 content updat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476-75C2-4DF3-973D-2164E94D4E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88C62-9EE4-4A50-A3D4-AB5E9B9AB0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II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alulated properties: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876480" cy="4905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915000" cy="4886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284720" y="5659560"/>
            <a:ext cx="485928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FDB-DD25-42D0-BC4C-0C2E093FD1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A5EB8-462C-4A43-BADB-D61BC98F62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V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alulated properties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81010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e hoch ist der “Bioconcentration factor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s Pestizids Agrostar und seiner Derivat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205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marinen Organismen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685800" indent="-137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grostar Struktursuch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indent="-137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grostar Similaritysuch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indent="-137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Refine” auf “Bioconcentration factor”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indent="-137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ufrufen und Durchsehen der Referenzen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44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4941720"/>
            <a:ext cx="3816360" cy="1457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132000" y="6165720"/>
            <a:ext cx="5472360" cy="4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30D-5CB9-4204-B5A1-B6034BA1C5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97B48-30AC-4645-B0FD-27F1A7B869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V 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alulated properties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356000" cy="3471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338640" cy="365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117-6B85-442A-9925-FCC1D005F7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4E30-FFDE-473A-82FD-A8DC835BFD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VI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alulated properties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6443640" cy="6237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227640" y="5877000"/>
            <a:ext cx="1513080" cy="98100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F80-2F5C-40FD-9E15-402F1CE7CC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18D98-2398-4CFA-A1CE-1AABF95062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VII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alulated properties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333680" cy="2200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03640" y="3800520"/>
            <a:ext cx="6153120" cy="3057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2852640"/>
            <a:ext cx="1512720" cy="57636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4365720"/>
            <a:ext cx="1513080" cy="57600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9E4-C0F6-4C9D-8D1D-D6FB7E0633C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96AAF-1147-4FC4-966F-97117C1468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VIII</a:t>
            </a:r>
            <a:br>
              <a:rPr sz="36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calulated properties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84760" cy="4064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284720" y="836640"/>
            <a:ext cx="4608360" cy="3744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3213000"/>
            <a:ext cx="1403280" cy="57636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40360" y="3645000"/>
            <a:ext cx="3527280" cy="50472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751-AF00-41BA-9BBD-C789B8570A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890A8-E083-42C9-AE8F-B7C60370EA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</a:t>
            </a:r>
            <a:br>
              <a:rPr sz="4000"/>
            </a:b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experimental properties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06440" y="3158640"/>
            <a:ext cx="32004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Experimental Property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elting Point/Sublim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Boiling Poi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ptical Rotatory Pow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Refractive Index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nsity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Median Lethal Do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1800" y="3158640"/>
            <a:ext cx="4336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Verbindungen mit diesem Eintrag (03/2006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&gt; 1 031 0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&gt;    167 4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&gt;    124 748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&gt;      56 848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&gt;      32 37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&gt;        3 658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71144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elle Eigenschaften werden von CAS mit indexi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344-C6A4-4BB1-B68F-2F2CF0599D14}" type="slidenum">
              <a:t>2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C6F95-F8D6-4DBC-A6D8-066DBBE696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I</a:t>
            </a:r>
            <a:br>
              <a:rPr sz="3600"/>
            </a:b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experimental properties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695920" cy="4867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881440" y="3429000"/>
            <a:ext cx="1403280" cy="28728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4653000"/>
            <a:ext cx="1403280" cy="36036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636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8160" y="4581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283-F2D1-4773-99B3-0428478A33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92D3C-C4C8-4BD4-8C28-4A567D9242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II</a:t>
            </a:r>
            <a:br>
              <a:rPr sz="3600"/>
            </a:b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experimental properties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638680" cy="4914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979640" y="4292640"/>
            <a:ext cx="2448000" cy="57636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ED3-34AC-495E-A5BA-AA33FB9AF8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26556-0AC2-49DF-8539-B67BBD6615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V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xperimental properties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69608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e hoch ist der “NOAEL/LOAEL (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served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verse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fect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l and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west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served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verse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fect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l)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otient des Pestizids Agrostar und seiner Derivate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731520" indent="-146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grostar Struktursuch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731520" indent="-146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grostar Similaritysuch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731520" indent="-146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Refine” auf “NOAEL/LOAEL”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731520" indent="-1461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ufrufen und Durchsehen der Referenzen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475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90C-953B-4AEE-90EA-048A752684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1CC3E-3D3C-404B-8C20-6F92E14500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Daten in SciFinder Scholar (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/200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19664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&gt;  25 Mio. Dokumente in CAplu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&gt; 9000 Journale,  &gt; 50 Patentämter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&gt; 15 Mio. Dokumente in Medlin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&gt; 27 Mio. “small chemical Molecules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&gt; 57 Mio. Biologische Sequenze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&gt; 10 Mio Reaktionen (mit bis zu </a:t>
            </a:r>
            <a:r>
              <a:rPr b="0" lang="de-DE" sz="2800" spc="-1" strike="noStrike">
                <a:solidFill>
                  <a:srgbClr val="808080"/>
                </a:solidFill>
                <a:latin typeface="Arial"/>
              </a:rPr>
              <a:t>29</a:t>
            </a:r>
            <a:r>
              <a:rPr b="0" lang="de-DE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Stufen)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ezugsinformationen für mehr als 8 Mio. Substanz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9 Verzeichnisse (EINECS, TSCA…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2A2-FF40-4159-BF1C-6C37F8F63B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66C81-41C1-4F8C-83F6-1A324E918F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xperimental properties- Tag 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003640" y="4743360"/>
            <a:ext cx="3667320" cy="2114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352760" cy="2257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492360" y="3284640"/>
            <a:ext cx="2600640" cy="1809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79280" y="2997360"/>
            <a:ext cx="2448000" cy="57600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4AE-BB07-4E59-AD79-575CCB9CCC2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D4DCF-C441-458E-9955-4A62CA2C6F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</a:t>
            </a:r>
            <a:br>
              <a:rPr sz="36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xperimental properties (Such und Refine-Beispiel)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33600" y="4029120"/>
            <a:ext cx="5810400" cy="2828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352760" cy="2257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2411280" y="2708280"/>
            <a:ext cx="2629080" cy="1828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2565360"/>
            <a:ext cx="2448000" cy="57636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968-2231-4DFA-B7FE-58650A1A92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3B060-622D-4C9A-B419-13AB47DD92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I</a:t>
            </a:r>
            <a:br>
              <a:rPr sz="4000"/>
            </a:b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xperimental properties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824360" cy="3578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572000" cy="3157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835280" y="1793880"/>
            <a:ext cx="5113080" cy="439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5EF-7895-41E6-84AC-8CF806BFC47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E46A4-D11D-4CD0-9296-B0322422E4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ysikalische Eigenschaften in SFS I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experimental properties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pectra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87480" y="244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3141720"/>
            <a:ext cx="8820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SFS enthält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ald zusätzlich138 250 Spektren als graphischen Datensatz (032006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04 112     CARBON-13 NMR SPECTR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1 139     MASS SPECTR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6 351     IR ABSORPTION SPECTR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1773360"/>
            <a:ext cx="883908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SFS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nd in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45 411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ruktureinträgen Spektren als “Tag” verzeichnet (03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3C5-4E3E-473D-B2DA-160585A248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69958-F239-4890-97E9-AF366C8024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II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experimental properties Spectra als “Tag” (gegenw</a:t>
            </a: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ä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rtig)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824360" cy="4732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238640" cy="5305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43280" y="4508640"/>
            <a:ext cx="4321440" cy="57600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53E-91C2-4A51-9587-87FF1CD879C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8EFA8-BA4B-4F88-AD62-443FEE1747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II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properties Spectra als “Tag” (gegenw</a:t>
            </a: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ä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rtig)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13240" y="1197000"/>
            <a:ext cx="383076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7913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5B5-546C-4BB6-A36A-94FFAF6FFE9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F1F7F-6115-41B4-A748-22E3FEFFEA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V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properties Spectra als “Tag” (gegenw</a:t>
            </a:r>
            <a:r>
              <a:rPr b="0" lang="de-DE" sz="1800" spc="-1" strike="noStrike">
                <a:solidFill>
                  <a:srgbClr val="cc0066"/>
                </a:solidFill>
                <a:latin typeface="Arial"/>
              </a:rPr>
              <a:t>ä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rtig)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403280" y="1557360"/>
            <a:ext cx="6400800" cy="4343400"/>
            <a:chOff x="1403280" y="1557360"/>
            <a:chExt cx="6400800" cy="434340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1403280" y="1557360"/>
              <a:ext cx="6400800" cy="3646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0" name=""/>
            <p:cNvSpPr/>
            <p:nvPr/>
          </p:nvSpPr>
          <p:spPr>
            <a:xfrm>
              <a:off x="2317680" y="5443560"/>
              <a:ext cx="3505320" cy="457200"/>
            </a:xfrm>
            <a:prstGeom prst="roundRect">
              <a:avLst>
                <a:gd name="adj" fmla="val 16667"/>
              </a:avLst>
            </a:prstGeom>
            <a:solidFill>
              <a:srgbClr val="eff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-Ray Diffraction Pattern/E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E2F-D390-4A8E-A485-655EC889CC9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F709B-18C9-4BA7-9483-F7096337F9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</a:t>
            </a:r>
            <a:br>
              <a:rPr sz="3600"/>
            </a:b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Spectra als “JPG” (ab März 2006)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52760" cy="2257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2600280" cy="1809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705480" cy="2543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79280" y="2997360"/>
            <a:ext cx="2448000" cy="57600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219640" y="4869000"/>
            <a:ext cx="3457800" cy="792000"/>
            <a:chOff x="5219640" y="4869000"/>
            <a:chExt cx="3457800" cy="792000"/>
          </a:xfrm>
        </p:grpSpPr>
        <p:grpSp>
          <p:nvGrpSpPr>
            <p:cNvPr id="267" name=""/>
            <p:cNvGrpSpPr/>
            <p:nvPr/>
          </p:nvGrpSpPr>
          <p:grpSpPr>
            <a:xfrm>
              <a:off x="5219640" y="5229360"/>
              <a:ext cx="1873440" cy="431640"/>
              <a:chOff x="5219640" y="5229360"/>
              <a:chExt cx="1873440" cy="431640"/>
            </a:xfrm>
          </p:grpSpPr>
          <p:sp>
            <p:nvSpPr>
              <p:cNvPr id="268" name=""/>
              <p:cNvSpPr/>
              <p:nvPr/>
            </p:nvSpPr>
            <p:spPr>
              <a:xfrm>
                <a:off x="5219640" y="5229360"/>
                <a:ext cx="187344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19640" y="5661000"/>
                <a:ext cx="1873440" cy="0"/>
              </a:xfrm>
              <a:prstGeom prst="line">
                <a:avLst/>
              </a:prstGeom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236000" y="4869000"/>
              <a:ext cx="1441440" cy="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D2E-095F-499A-8506-F65A3D96D1E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8A6B1-B491-4B21-8FFB-CC85E852E9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</a:t>
            </a:r>
            <a:br>
              <a:rPr sz="3600"/>
            </a:b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Spectra als JPG (C13 NMR)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305240" cy="493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4E8-32DE-4C3B-B90C-7E6F8A0B045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DC7C4-AED5-41D0-A699-3B14F58B9E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I</a:t>
            </a:r>
            <a:br>
              <a:rPr sz="3600"/>
            </a:b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Spectra als JPG (Massenspektrum)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24000" y="1528920"/>
            <a:ext cx="5035320" cy="5329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211640" y="4941720"/>
            <a:ext cx="476100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2FA-4B5E-40FE-A328-DF56D31915E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48A1A-3C3E-424E-BEBE-60188295B1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Patent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abdeckung I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ciFinder Scholar enthält 5.1 Mio. Patente (03/2006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Kernpatentämter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EP, WO, DE, FR, GB, JP, US, RU, CA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2 Tage = Bibliographische Information vorhand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27 Tage =Indexierung komplet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aschinelle Übersetzung vorgeschaltet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J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29D-2166-4897-9835-79D9BFF6D0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D0EEE-F4E6-4038-8AA9-CB6317E92C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VIII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Spectra als JPG (Infrarotspektrum)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9640" y="1362240"/>
            <a:ext cx="5086440" cy="5495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768840" y="5424480"/>
            <a:ext cx="537516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AD7-FA7F-4EEC-946D-2466E5BD664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B9B8-E2E6-4111-AF14-D30BC42FB3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88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X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Spectra als JPG in Registry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55640" y="1301760"/>
            <a:ext cx="6192720" cy="54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CFC-D2AA-41A8-A022-A04F8ABA0C0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1FB93-E99A-4209-BC8D-06C044C253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ehr als 1.5 “single component” Substanzen enthalten Property Ta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5 411 “single component” Substanzen enthalten Property Tags f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ür Spektr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Insgesammt werden 188 verschiedene Property Tags vergeb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experimental property 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243-8552-4A77-BFEB-CF417166524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7DF39-9CFE-422C-B217-F99202E6C4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Physikalische Eigenschaften in SFS II</a:t>
            </a:r>
            <a:br>
              <a:rPr sz="3600"/>
            </a:br>
            <a:r>
              <a:rPr b="0" lang="en-US" sz="1600" spc="-1" strike="noStrike">
                <a:solidFill>
                  <a:srgbClr val="cc0066"/>
                </a:solidFill>
                <a:latin typeface="Arial"/>
              </a:rPr>
              <a:t>experimental property Taggs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39240" cy="497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07240" y="119700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cas.org/ONLINE/UG/taggedproperties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37280" y="56037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.   .   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BB2-A0A0-4311-855E-126B47F447C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1BDC9-3725-48B6-BFF3-45879E2D00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686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Reaktionsinformation I 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6640" y="1628280"/>
            <a:ext cx="8307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ASREACT enthält 10 Mio. Reaktionen (ab 1840) mit bis zu 29 Stufen von CAS indexiert oder aus weiteren Quellen aufgenommen und von CAS nachindexiert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rganic Sections von Chemical Abstracts (CA):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Journale ab 1985 bis heut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atente ab 01.01.1991 bis heute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E39-3DCE-431D-9E12-7BF6ED93BF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B1A5B-06B9-413D-B135-C7AE21465B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Reaktionsinformation II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6640" y="1196640"/>
            <a:ext cx="8307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ammung von Reaktionen des “All-Union Institute of Scientific and Technical  Information of the Academy of Sciences of the USSR (VINITI)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aktionen der Deutschen  Zentrale für Informationsverarbeitung Chemie, Berlin (ZIC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foChe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Journale 1974-1991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Patente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982-1991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0972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F9B-3AAB-4272-B15B-015F5241A9E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B8154-58A6-4A0E-A016-F925743490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Reaktionsinformation III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6640" y="980640"/>
            <a:ext cx="8307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xn: Reaktionsdatenbank von INPI (Institut National de la Propriete Industrielle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1748520" indent="-19404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arstellung von Steroiden,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748520" indent="-19404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Heterozyklische Verbindungen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748520" indent="-19404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Kohlenhydrat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aktionen von dem Französischen Unternehmen Roussel-Uclaf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1748520" indent="-19404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atente und Journa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atenbank der Biotransformationen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360080" indent="-1940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971- 1991 von Herrn Prof. Dr. Klaus Kieslich (Univ. Braunschweig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DAB-5E3B-41EB-8022-40114C87AB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F2BB8-5D53-4D53-B7E2-11FF76898D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472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Schulungsmaterialien zu SFS I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5105520"/>
            <a:ext cx="168264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40440" y="5589720"/>
            <a:ext cx="65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 Wahlmöglichkeit, Kurs für Subcriber 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886880" cy="3571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08200" y="93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114560"/>
            <a:ext cx="4392720" cy="38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313-9526-460B-94E9-6C6E6BBC670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0A65D-9071-43E7-AE1C-B5458EFCD6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472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Schulungsmaterialien zu SFS II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105520"/>
            <a:ext cx="168264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08200" y="93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6229440" cy="4457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341360"/>
            <a:ext cx="3672000" cy="6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691-DF5F-40B2-B864-029A2E7B9A4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3AE9C-1CDE-4DA7-83A9-25300D9813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6781680" cy="27910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696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Vorbereitung von SFS 2006 I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b dem 31.03. werden abgestellt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ciFinder Scholar 2002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ciFinder Scholar 2002.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ciFinder Scholar 2004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132000" y="2847960"/>
            <a:ext cx="5400720" cy="4010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2033640"/>
            <a:ext cx="3600360" cy="46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6ED-83E0-4AE0-AC6C-7569EB6E18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0ACCD-C065-47DA-9A06-738346A30C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696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Patent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abdeckung II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06640"/>
            <a:ext cx="7416720" cy="44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5559480"/>
            <a:ext cx="4608720" cy="47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A36-28F8-4136-8AE9-4F07F09E34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231FD-2D8F-4AEB-81C8-32E15B323F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Neues an der Auflage SFS 2006 I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1341360"/>
            <a:ext cx="6908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Verbesserte Navigation und Recherchmöglichk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ue M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öglichkeiten der Strukturrecher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ue Möglichkeiten der Reaktions-recherche und Ausga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96000" y="3573360"/>
            <a:ext cx="2665080" cy="2304720"/>
            <a:chOff x="5796000" y="3573360"/>
            <a:chExt cx="2665080" cy="2304720"/>
          </a:xfrm>
        </p:grpSpPr>
        <p:sp>
          <p:nvSpPr>
            <p:cNvPr id="312" name=""/>
            <p:cNvSpPr/>
            <p:nvPr/>
          </p:nvSpPr>
          <p:spPr>
            <a:xfrm>
              <a:off x="5796000" y="3573360"/>
              <a:ext cx="2665080" cy="881280"/>
            </a:xfrm>
            <a:prstGeom prst="rightArrow">
              <a:avLst>
                <a:gd name="adj1" fmla="val 50000"/>
                <a:gd name="adj2" fmla="val 7560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eparater Vortr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96000" y="4996800"/>
              <a:ext cx="2665080" cy="881280"/>
            </a:xfrm>
            <a:prstGeom prst="rightArrow">
              <a:avLst>
                <a:gd name="adj1" fmla="val 50000"/>
                <a:gd name="adj2" fmla="val 7560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eparater Vortr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D6B-668A-411B-8EF6-0DDBB1FCD77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92B2E-1AEF-4007-A83C-515F87C33E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86464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Neues an der Auflage SFS 2006</a:t>
            </a:r>
            <a:r>
              <a:rPr b="0" lang="de-DE" sz="4000" spc="-1" strike="noStrike">
                <a:solidFill>
                  <a:srgbClr val="cc0066"/>
                </a:solidFill>
                <a:latin typeface="Arial"/>
              </a:rPr>
              <a:t>  II</a:t>
            </a:r>
            <a:br>
              <a:rPr sz="4000"/>
            </a:b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980640"/>
            <a:ext cx="853452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ue Aufteilung in Explore und Locat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Bibliographische Dokument-Schnellsuche mit Locat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ubletten Entfernu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eue Kontexthilf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rect to document”/”Direct to Library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usrad funktioniert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200-6662-4BFB-A9DD-1151AE8B22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A9A2C-CC78-4A92-A02E-BDC08F39E4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495600" cy="2419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4240" y="200160"/>
            <a:ext cx="8645400" cy="10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Neues an der Auflage SFS 2006 III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 Neue Aufteilung in Explore und Locate 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484360" y="1916280"/>
            <a:ext cx="1656000" cy="792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3357720"/>
            <a:ext cx="1152360" cy="1008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948360" y="4581360"/>
            <a:ext cx="21956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enge” 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29800" y="977760"/>
            <a:ext cx="37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eite“ 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232160" cy="33195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067280" y="4384800"/>
            <a:ext cx="28400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699-66C3-48BE-845F-6F8A8C9408E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3F3E6-F2BC-4C9C-A304-A4270A02A6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915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Neues an der Auflage SFS 2006 IV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Bibliographische Dokument Schnellsuche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5240" y="1765440"/>
            <a:ext cx="4546440" cy="609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e oder Pa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7840" y="2857680"/>
            <a:ext cx="4546440" cy="609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kann viel oder wenig eingegeb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840" y="3949560"/>
            <a:ext cx="4495680" cy="1067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tion verschiedener Eingaben ist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818240" y="1052640"/>
            <a:ext cx="432576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195-0F2F-4A68-9A46-1ECF4BCC6D3F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07D0C-6E91-4E14-ABA9-4B3A81F813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39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Neues an der Auflage SFS 2006 V</a:t>
            </a:r>
            <a:br>
              <a:rPr sz="2000"/>
            </a:br>
            <a:r>
              <a:rPr b="0" lang="en-US" sz="2000" spc="-1" strike="noStrike" baseline="30000">
                <a:solidFill>
                  <a:srgbClr val="cc00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ubletten Entfernung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3581280"/>
            <a:ext cx="2003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66"/>
                </a:solidFill>
                <a:latin typeface="Arial"/>
              </a:rPr>
              <a:t>Dubletten Entfernung CAplus bleibt</a:t>
            </a:r>
            <a:r>
              <a:rPr b="0" lang="de-DE" sz="1600" spc="-1" strike="noStrike">
                <a:solidFill>
                  <a:srgbClr val="cc0066"/>
                </a:solidFill>
                <a:latin typeface="Arial"/>
              </a:rPr>
              <a:t>  max für 5000 Referen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5264280" cy="5805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066680" y="5181480"/>
            <a:ext cx="3360960" cy="134316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748-E312-4D81-802C-C490AAD0C8E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00913-3E3F-4462-8121-B0C1E6540D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4080" y="266400"/>
            <a:ext cx="8989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Neues an der Auflage SFS 2006 VI</a:t>
            </a:r>
            <a:br>
              <a:rPr sz="4400"/>
            </a:br>
            <a:r>
              <a:rPr b="0" lang="en-US" sz="3800" spc="-1" strike="noStrike" baseline="30000">
                <a:solidFill>
                  <a:srgbClr val="cc00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Kontext Hilfe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5810400" cy="3781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637160" cy="41529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26920" y="4724280"/>
            <a:ext cx="936720" cy="576360"/>
          </a:xfrm>
          <a:prstGeom prst="ellipse">
            <a:avLst/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7A1-7893-45BC-8FFB-8DDB5277E3A8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1FC96-48B1-42F0-B5EE-57FC24BB14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4320" y="260280"/>
            <a:ext cx="8959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Neues an der Auflage SFS 2006 VII</a:t>
            </a:r>
            <a:r>
              <a:rPr b="0" lang="en-US" sz="3400" spc="-1" strike="noStrike">
                <a:solidFill>
                  <a:srgbClr val="cc00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”Direct to document”- “direct to library”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317840" y="4866840"/>
            <a:ext cx="743040" cy="349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80000" y="2696760"/>
            <a:ext cx="1277640" cy="44460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935160" cy="45288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067360" y="1981080"/>
            <a:ext cx="3771720" cy="1981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5076720" y="4365720"/>
            <a:ext cx="377208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F4D-458B-4BD0-AFFF-3A14D6E35D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12AF8-1237-46C0-9A48-D3A328BB52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4320" y="487440"/>
            <a:ext cx="8959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Neues an der Auflage SFS 2006 VIII</a:t>
            </a:r>
            <a:br>
              <a:rPr sz="4000"/>
            </a:br>
            <a:r>
              <a:rPr b="0" lang="en-US" sz="3800" spc="-1" strike="noStrike">
                <a:solidFill>
                  <a:srgbClr val="cc0066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”Direct to document”- “direct to library”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ir verlinken Sie ab 2005 auch direkt mit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HighWire Press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pen Access articles von </a:t>
            </a:r>
            <a:r>
              <a:rPr b="0" lang="de-DE" sz="2000" spc="-1" strike="noStrike">
                <a:solidFill>
                  <a:srgbClr val="5f5f5f"/>
                </a:solidFill>
                <a:latin typeface="Arial"/>
              </a:rPr>
              <a:t>über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300 Journalen (science and medicine).  Publikationen sind frei verfügbar nach individueller Karenzzeit.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ighwire.stanford.edu/lists/freeart.dtl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Los Alamos National Labs (LANL)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Über 300,000 Artikel (Physik, Astronomy, Computerwissenschaften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7D3-4ECC-4CB9-8F98-3D246963DE6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5DD94-AF4A-49AC-80A9-69FB76EA00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015920" y="1125000"/>
            <a:ext cx="8128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Daten in SciFinder Scholar (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/200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6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Pate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bdeckung/ Journalabdeckung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ue alte Daten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Zitierung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hysikalische Eigenschaften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aktionsinform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ue Schulungsmaterialien zu SciFinder 200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ues an der Version 2006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SF 200</a:t>
            </a: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6</a:t>
            </a:r>
            <a:r>
              <a:rPr b="0" lang="de-DE" sz="4400" spc="-1" strike="noStrike">
                <a:solidFill>
                  <a:srgbClr val="cc0066"/>
                </a:solidFill>
                <a:latin typeface="Arial"/>
              </a:rPr>
              <a:t> content updat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40320" y="5300640"/>
            <a:ext cx="575856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ÜNSC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FRAGEN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4CB-651A-4081-A7EB-27044849FCF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17A6D-DCDD-43D6-811F-6D3DF0FA21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03640" y="380880"/>
            <a:ext cx="3911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2006 Edition</a:t>
            </a:r>
            <a:endParaRPr b="1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835280" y="508428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SciFinder Scholar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ontent Updat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31600" y="587700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. Karin Fär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A8B3-1B5B-440D-9A8B-752BF1A4F7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A18400C-9231-4586-9113-49ADEB9F14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Journalabdeckung I</a:t>
            </a:r>
            <a:br>
              <a:rPr sz="4400"/>
            </a:b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Neue Alte Daten (publiziert vor 1907)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3,900 zusätzliche Dokumente wurden aufgenommen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us dem </a:t>
            </a:r>
            <a:r>
              <a:rPr b="0" i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Journal of the American Chemical Society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5f5f5f"/>
                </a:solidFill>
                <a:latin typeface="Arial"/>
              </a:rPr>
              <a:t>ä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nde 1-21 (1879 – 1899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atentinformation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aus den Bänden  1-17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us dem </a:t>
            </a:r>
            <a:r>
              <a:rPr b="0" i="1" lang="en-US" sz="2400" spc="-1" strike="noStrike" u="sng">
                <a:solidFill>
                  <a:srgbClr val="5f5f5f"/>
                </a:solidFill>
                <a:uFillTx/>
                <a:latin typeface="Arial"/>
              </a:rPr>
              <a:t>Journal of Physical Chemistr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Bände 1-3 (1897 – 1899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Beide Quellen enthalten Journal Publikationen und Buchbesprechungen (Book Reviews)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lle Dokumente werden im virtuellen CA-Band 1906 verzeichne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4C2-9D05-4139-8121-15CD94D2A4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14A62-80AF-4FB3-9AEB-5547ACC076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696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Journalabdeckung II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Neue alte Daten: ein Beispielartikel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48600" y="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669744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F9D-2CE7-4FC2-AD27-D77F11793A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FE021-F5FA-4BA8-9EC7-AA4CD8F81A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696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Journalabdeckung III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1800" spc="-1" strike="noStrike">
                <a:solidFill>
                  <a:srgbClr val="cc0066"/>
                </a:solidFill>
                <a:latin typeface="Arial"/>
              </a:rPr>
              <a:t>Neue alte Daten: ein Beispielpatent</a:t>
            </a:r>
            <a:endParaRPr b="0" lang="en-US" sz="1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8600" y="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551640" cy="516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676-E25C-473C-ABF9-B6EB967005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18697-C759-48E2-8E68-66183BA9AF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69608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Zitierungen I</a:t>
            </a:r>
            <a:endParaRPr b="0" lang="en-US" sz="40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12536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Zitierungen sind eingepflegt für Journalartikel publiziert in römischen Buchstaben bis 1997 komplet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Zitierte Dokumente aus Patentprüfunge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ür US, EP, WO, und DE ab 1997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ür GB und FR für ab 2003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0040" y="5090760"/>
            <a:ext cx="5409000" cy="914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genwärtiger Stand &gt;150M Zitier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ciFinder Sch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Finder is a trademark of the American Chemical Socie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5BB-4CCE-4BA6-864A-E4C7277EB6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EE6CA-A807-4163-9311-B48C6957C4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7:24:00Z</dcterms:created>
  <dc:creator>CAS</dc:creator>
  <dc:description/>
  <dc:language>en-US</dc:language>
  <cp:lastModifiedBy>kxf83</cp:lastModifiedBy>
  <dcterms:modified xsi:type="dcterms:W3CDTF">2006-03-24T10:14:40Z</dcterms:modified>
  <cp:revision>321</cp:revision>
  <dc:subject/>
  <dc:title>No Slide Title</dc:title>
</cp:coreProperties>
</file>